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986B-A102-4DB4-836C-5BFF5E669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953D-BFE2-44AD-AA00-2C6225D0B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instorm - 1 minu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1A64-CEC9-42A6-AB6E-9C936005B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nvironment in which we are immersed has changed. Media and technology has changed. The social environment has been altered. The world has become networked and connected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ive learning design is no longer a formulaic process. It’s a rich engagement of learners and their nee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design is primarily about creating guideposts, not describing how to walk on a particular path. It is a mistaken assumption that design can create learning. The best that a well designed course, workshop, or work-integrated learning resource can offer is the climate in which a learner can choose to lear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4D3A-78BF-439B-AA44-39CBCEF52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instorm - 5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: End of brainst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 or Activity ? What drives the learn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3AD-E2BD-408D-A69A-442F47A7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EBF8-91A5-4F06-B8FC-9DF6646A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6DF-7A20-424C-B253-1A1260EC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58C-D4C7-49F4-8A39-25208620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4C7-0234-4B37-B0E4-ABD383E0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3B2-2604-455C-936B-3975D938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50D4-F4FD-4BD2-AA67-38BDE080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B3C-5F34-4139-B0F8-E4BC135B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470-DA05-483D-9977-A3ABC23D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1D9-A1BC-411F-9B20-440389A5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499-ECB2-4955-A2EB-381FE58E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E82-71C5-45EA-AE63-A72AE21D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33B1-C225-433D-A058-09EA194C1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88920" y="174600"/>
            <a:ext cx="9906120" cy="15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Developing Guidelines for effective online classes in f2f, blended and distance education: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0000"/>
                </a:solidFill>
                <a:latin typeface="Arial"/>
              </a:rPr>
              <a:t>Rationale, Process and Outcomes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6720" y="209520"/>
            <a:ext cx="4699080" cy="43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Na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 that pun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 will be able to fix a puncture for a bicycle ty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very M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2f and online (blend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5238720" y="209520"/>
            <a:ext cx="472284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id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identifies and uses the correct to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re tube is extra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fficient method to find the puncture/s in the tube i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ncture site is prepped and is sealed using the correct size patch and g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ube is refitted, and the tyre is pumped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re remains inf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y cyc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1038240" y="4600440"/>
            <a:ext cx="318456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88920" y="1320840"/>
            <a:ext cx="9942480" cy="39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-learning can manifest itself in four different way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ed self-paced e-learning onlin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ized self-paced e-learning offlin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-based e-learning synchronously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-based e-learning asynchronous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-learning may also comprise combinations of the foregoing types of activ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6840" y="93600"/>
            <a:ext cx="9464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nclusion - Points to rememb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8920" y="7213680"/>
            <a:ext cx="99601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"E-Learning - A guidebook of Principles, Procedures and Practices", Som Naid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196920" y="338040"/>
            <a:ext cx="9894960" cy="37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    The critical attributes of e-learning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ility of time, place and pace of stu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    E-learning affords opportunities to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   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environments that are authentic, situa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 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learning context, and also problem- based in order to provide students with “learning by doing” experi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91960" y="7112160"/>
            <a:ext cx="97664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"E-Learning - A guidebook of Principles, Procedures and Practices", Som Naid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ine Learning Design For Dummies: Professional Development Strategies For Beginning Online Design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n Oliver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h Cowan University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Bradford St, Mt Lawley 6050, Western Australi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 Herringto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h Cowan University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Bradford St, Mt Lawley 6050, Western Austral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wen, H. (2008). Collaborating by Design. Paper presented at the EFest 2008 conference. Auckland, 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76320" y="193680"/>
            <a:ext cx="921384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ypes of class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47680" y="914400"/>
            <a:ext cx="11121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2F                          Blended               Distance/On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-12600" y="7112160"/>
            <a:ext cx="9928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://www.flickr.com/photos/14867878@N04/3372431066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1422360" y="1625760"/>
            <a:ext cx="7693200" cy="180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060560" y="2031840"/>
            <a:ext cx="9667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w do they compare ?  (Brainst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Why Learning Design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3920" y="1321920"/>
            <a:ext cx="6465960" cy="606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environment in which we are now immersed has changed dramatically. The world has become networked and connec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echnology driving pedagogy is a concern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cess (Design) is more important than cont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nge from content to activ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44440" y="2470320"/>
            <a:ext cx="65120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  from the learner's perspective?  (Brainst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365120" y="304920"/>
            <a:ext cx="6917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Arial"/>
              </a:rPr>
              <a:t>Critique real online cours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O  T  A  R  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bjectiv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em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tiviti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sourc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sess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"/>
          <p:cNvGrpSpPr/>
          <p:nvPr/>
        </p:nvGrpSpPr>
        <p:grpSpPr>
          <a:xfrm>
            <a:off x="-33480" y="714240"/>
            <a:ext cx="10193400" cy="6912000"/>
            <a:chOff x="-33480" y="714240"/>
            <a:chExt cx="10193400" cy="6912000"/>
          </a:xfrm>
        </p:grpSpPr>
        <p:sp>
          <p:nvSpPr>
            <p:cNvPr id="61" name="Rectangle 5"/>
            <p:cNvSpPr/>
            <p:nvPr/>
          </p:nvSpPr>
          <p:spPr>
            <a:xfrm>
              <a:off x="-33480" y="714240"/>
              <a:ext cx="20653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Objectives 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6"/>
            <p:cNvSpPr/>
            <p:nvPr/>
          </p:nvSpPr>
          <p:spPr>
            <a:xfrm>
              <a:off x="2031840" y="714240"/>
              <a:ext cx="20304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Them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4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7"/>
            <p:cNvSpPr/>
            <p:nvPr/>
          </p:nvSpPr>
          <p:spPr>
            <a:xfrm>
              <a:off x="4062240" y="714240"/>
              <a:ext cx="2035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Activiti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6097320" y="714240"/>
              <a:ext cx="20304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8127720" y="714240"/>
              <a:ext cx="20322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Assessment 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-33480" y="1506240"/>
              <a:ext cx="2065320" cy="61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2031840" y="1506240"/>
              <a:ext cx="2030400" cy="61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4062240" y="1506240"/>
              <a:ext cx="2035080" cy="61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3"/>
            <p:cNvSpPr/>
            <p:nvPr/>
          </p:nvSpPr>
          <p:spPr>
            <a:xfrm>
              <a:off x="6097320" y="1506240"/>
              <a:ext cx="2030400" cy="61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4"/>
            <p:cNvSpPr/>
            <p:nvPr/>
          </p:nvSpPr>
          <p:spPr>
            <a:xfrm>
              <a:off x="8127720" y="1506240"/>
              <a:ext cx="2032200" cy="61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5"/>
            <p:cNvSpPr/>
            <p:nvPr/>
          </p:nvSpPr>
          <p:spPr>
            <a:xfrm>
              <a:off x="8127720" y="714240"/>
              <a:ext cx="2032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6"/>
            <p:cNvSpPr/>
            <p:nvPr/>
          </p:nvSpPr>
          <p:spPr>
            <a:xfrm>
              <a:off x="8127720" y="1506240"/>
              <a:ext cx="2032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7"/>
            <p:cNvSpPr/>
            <p:nvPr/>
          </p:nvSpPr>
          <p:spPr>
            <a:xfrm>
              <a:off x="8127720" y="7626240"/>
              <a:ext cx="20322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18"/>
            <p:cNvSpPr/>
            <p:nvPr/>
          </p:nvSpPr>
          <p:spPr>
            <a:xfrm>
              <a:off x="-33480" y="1506240"/>
              <a:ext cx="0" cy="6120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9"/>
            <p:cNvSpPr/>
            <p:nvPr/>
          </p:nvSpPr>
          <p:spPr>
            <a:xfrm>
              <a:off x="2031840" y="1506240"/>
              <a:ext cx="0" cy="6120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20"/>
            <p:cNvSpPr/>
            <p:nvPr/>
          </p:nvSpPr>
          <p:spPr>
            <a:xfrm>
              <a:off x="4062240" y="1506240"/>
              <a:ext cx="0" cy="6120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1"/>
            <p:cNvSpPr/>
            <p:nvPr/>
          </p:nvSpPr>
          <p:spPr>
            <a:xfrm>
              <a:off x="6097320" y="1506240"/>
              <a:ext cx="0" cy="6120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2"/>
            <p:cNvSpPr/>
            <p:nvPr/>
          </p:nvSpPr>
          <p:spPr>
            <a:xfrm>
              <a:off x="8127720" y="1506240"/>
              <a:ext cx="0" cy="6120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23"/>
            <p:cNvSpPr/>
            <p:nvPr/>
          </p:nvSpPr>
          <p:spPr>
            <a:xfrm>
              <a:off x="10159920" y="1506240"/>
              <a:ext cx="0" cy="6120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4"/>
            <p:cNvSpPr/>
            <p:nvPr/>
          </p:nvSpPr>
          <p:spPr>
            <a:xfrm>
              <a:off x="-33480" y="714240"/>
              <a:ext cx="20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5"/>
            <p:cNvSpPr/>
            <p:nvPr/>
          </p:nvSpPr>
          <p:spPr>
            <a:xfrm>
              <a:off x="-33480" y="714240"/>
              <a:ext cx="20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6"/>
            <p:cNvSpPr/>
            <p:nvPr/>
          </p:nvSpPr>
          <p:spPr>
            <a:xfrm>
              <a:off x="-33480" y="714240"/>
              <a:ext cx="20653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27"/>
            <p:cNvSpPr/>
            <p:nvPr/>
          </p:nvSpPr>
          <p:spPr>
            <a:xfrm>
              <a:off x="-3348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28"/>
            <p:cNvSpPr/>
            <p:nvPr/>
          </p:nvSpPr>
          <p:spPr>
            <a:xfrm>
              <a:off x="-3348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29"/>
            <p:cNvSpPr/>
            <p:nvPr/>
          </p:nvSpPr>
          <p:spPr>
            <a:xfrm>
              <a:off x="-33480" y="714240"/>
              <a:ext cx="0" cy="792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30"/>
            <p:cNvSpPr/>
            <p:nvPr/>
          </p:nvSpPr>
          <p:spPr>
            <a:xfrm>
              <a:off x="203184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31"/>
            <p:cNvSpPr/>
            <p:nvPr/>
          </p:nvSpPr>
          <p:spPr>
            <a:xfrm>
              <a:off x="203184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32"/>
            <p:cNvSpPr/>
            <p:nvPr/>
          </p:nvSpPr>
          <p:spPr>
            <a:xfrm>
              <a:off x="2031840" y="714240"/>
              <a:ext cx="0" cy="792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33"/>
            <p:cNvSpPr/>
            <p:nvPr/>
          </p:nvSpPr>
          <p:spPr>
            <a:xfrm>
              <a:off x="-33480" y="1506240"/>
              <a:ext cx="20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34"/>
            <p:cNvSpPr/>
            <p:nvPr/>
          </p:nvSpPr>
          <p:spPr>
            <a:xfrm>
              <a:off x="-33480" y="1506240"/>
              <a:ext cx="20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35"/>
            <p:cNvSpPr/>
            <p:nvPr/>
          </p:nvSpPr>
          <p:spPr>
            <a:xfrm>
              <a:off x="-33480" y="1506240"/>
              <a:ext cx="20653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36"/>
            <p:cNvSpPr/>
            <p:nvPr/>
          </p:nvSpPr>
          <p:spPr>
            <a:xfrm>
              <a:off x="2031840" y="714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37"/>
            <p:cNvSpPr/>
            <p:nvPr/>
          </p:nvSpPr>
          <p:spPr>
            <a:xfrm>
              <a:off x="2031840" y="714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38"/>
            <p:cNvSpPr/>
            <p:nvPr/>
          </p:nvSpPr>
          <p:spPr>
            <a:xfrm>
              <a:off x="2031840" y="714240"/>
              <a:ext cx="2030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39"/>
            <p:cNvSpPr/>
            <p:nvPr/>
          </p:nvSpPr>
          <p:spPr>
            <a:xfrm>
              <a:off x="406224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40"/>
            <p:cNvSpPr/>
            <p:nvPr/>
          </p:nvSpPr>
          <p:spPr>
            <a:xfrm>
              <a:off x="406224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41"/>
            <p:cNvSpPr/>
            <p:nvPr/>
          </p:nvSpPr>
          <p:spPr>
            <a:xfrm>
              <a:off x="4062240" y="714240"/>
              <a:ext cx="0" cy="792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42"/>
            <p:cNvSpPr/>
            <p:nvPr/>
          </p:nvSpPr>
          <p:spPr>
            <a:xfrm>
              <a:off x="2031840" y="1506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43"/>
            <p:cNvSpPr/>
            <p:nvPr/>
          </p:nvSpPr>
          <p:spPr>
            <a:xfrm>
              <a:off x="2031840" y="1506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44"/>
            <p:cNvSpPr/>
            <p:nvPr/>
          </p:nvSpPr>
          <p:spPr>
            <a:xfrm>
              <a:off x="2031840" y="1506240"/>
              <a:ext cx="2030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45"/>
            <p:cNvSpPr/>
            <p:nvPr/>
          </p:nvSpPr>
          <p:spPr>
            <a:xfrm>
              <a:off x="4062240" y="714240"/>
              <a:ext cx="20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46"/>
            <p:cNvSpPr/>
            <p:nvPr/>
          </p:nvSpPr>
          <p:spPr>
            <a:xfrm>
              <a:off x="4062240" y="714240"/>
              <a:ext cx="20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47"/>
            <p:cNvSpPr/>
            <p:nvPr/>
          </p:nvSpPr>
          <p:spPr>
            <a:xfrm>
              <a:off x="4062240" y="714240"/>
              <a:ext cx="20350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48"/>
            <p:cNvSpPr/>
            <p:nvPr/>
          </p:nvSpPr>
          <p:spPr>
            <a:xfrm>
              <a:off x="609732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49"/>
            <p:cNvSpPr/>
            <p:nvPr/>
          </p:nvSpPr>
          <p:spPr>
            <a:xfrm>
              <a:off x="609732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50"/>
            <p:cNvSpPr/>
            <p:nvPr/>
          </p:nvSpPr>
          <p:spPr>
            <a:xfrm>
              <a:off x="6097320" y="714240"/>
              <a:ext cx="0" cy="792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51"/>
            <p:cNvSpPr/>
            <p:nvPr/>
          </p:nvSpPr>
          <p:spPr>
            <a:xfrm>
              <a:off x="4062240" y="1506240"/>
              <a:ext cx="20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52"/>
            <p:cNvSpPr/>
            <p:nvPr/>
          </p:nvSpPr>
          <p:spPr>
            <a:xfrm>
              <a:off x="4062240" y="1506240"/>
              <a:ext cx="20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53"/>
            <p:cNvSpPr/>
            <p:nvPr/>
          </p:nvSpPr>
          <p:spPr>
            <a:xfrm>
              <a:off x="4062240" y="1506240"/>
              <a:ext cx="20350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54"/>
            <p:cNvSpPr/>
            <p:nvPr/>
          </p:nvSpPr>
          <p:spPr>
            <a:xfrm>
              <a:off x="6097320" y="714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55"/>
            <p:cNvSpPr/>
            <p:nvPr/>
          </p:nvSpPr>
          <p:spPr>
            <a:xfrm>
              <a:off x="6097320" y="714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56"/>
            <p:cNvSpPr/>
            <p:nvPr/>
          </p:nvSpPr>
          <p:spPr>
            <a:xfrm>
              <a:off x="6097320" y="714240"/>
              <a:ext cx="2030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57"/>
            <p:cNvSpPr/>
            <p:nvPr/>
          </p:nvSpPr>
          <p:spPr>
            <a:xfrm>
              <a:off x="812772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58"/>
            <p:cNvSpPr/>
            <p:nvPr/>
          </p:nvSpPr>
          <p:spPr>
            <a:xfrm>
              <a:off x="812772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59"/>
            <p:cNvSpPr/>
            <p:nvPr/>
          </p:nvSpPr>
          <p:spPr>
            <a:xfrm>
              <a:off x="8127720" y="714240"/>
              <a:ext cx="0" cy="792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60"/>
            <p:cNvSpPr/>
            <p:nvPr/>
          </p:nvSpPr>
          <p:spPr>
            <a:xfrm>
              <a:off x="6097320" y="1506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61"/>
            <p:cNvSpPr/>
            <p:nvPr/>
          </p:nvSpPr>
          <p:spPr>
            <a:xfrm>
              <a:off x="6097320" y="1506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2"/>
            <p:cNvSpPr/>
            <p:nvPr/>
          </p:nvSpPr>
          <p:spPr>
            <a:xfrm>
              <a:off x="6097320" y="1506240"/>
              <a:ext cx="2030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63"/>
            <p:cNvSpPr/>
            <p:nvPr/>
          </p:nvSpPr>
          <p:spPr>
            <a:xfrm>
              <a:off x="8127720" y="714240"/>
              <a:ext cx="203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64"/>
            <p:cNvSpPr/>
            <p:nvPr/>
          </p:nvSpPr>
          <p:spPr>
            <a:xfrm>
              <a:off x="8127720" y="714240"/>
              <a:ext cx="203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65"/>
            <p:cNvSpPr/>
            <p:nvPr/>
          </p:nvSpPr>
          <p:spPr>
            <a:xfrm>
              <a:off x="1015992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66"/>
            <p:cNvSpPr/>
            <p:nvPr/>
          </p:nvSpPr>
          <p:spPr>
            <a:xfrm>
              <a:off x="10159920" y="7142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67"/>
            <p:cNvSpPr/>
            <p:nvPr/>
          </p:nvSpPr>
          <p:spPr>
            <a:xfrm>
              <a:off x="10159920" y="714240"/>
              <a:ext cx="0" cy="7920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68"/>
            <p:cNvSpPr/>
            <p:nvPr/>
          </p:nvSpPr>
          <p:spPr>
            <a:xfrm>
              <a:off x="8127720" y="1506240"/>
              <a:ext cx="203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69"/>
            <p:cNvSpPr/>
            <p:nvPr/>
          </p:nvSpPr>
          <p:spPr>
            <a:xfrm>
              <a:off x="8127720" y="1506240"/>
              <a:ext cx="203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70"/>
            <p:cNvSpPr/>
            <p:nvPr/>
          </p:nvSpPr>
          <p:spPr>
            <a:xfrm>
              <a:off x="-3348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71"/>
            <p:cNvSpPr/>
            <p:nvPr/>
          </p:nvSpPr>
          <p:spPr>
            <a:xfrm>
              <a:off x="-3348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72"/>
            <p:cNvSpPr/>
            <p:nvPr/>
          </p:nvSpPr>
          <p:spPr>
            <a:xfrm>
              <a:off x="203184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73"/>
            <p:cNvSpPr/>
            <p:nvPr/>
          </p:nvSpPr>
          <p:spPr>
            <a:xfrm>
              <a:off x="203184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74"/>
            <p:cNvSpPr/>
            <p:nvPr/>
          </p:nvSpPr>
          <p:spPr>
            <a:xfrm>
              <a:off x="-33480" y="7626240"/>
              <a:ext cx="20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75"/>
            <p:cNvSpPr/>
            <p:nvPr/>
          </p:nvSpPr>
          <p:spPr>
            <a:xfrm>
              <a:off x="-33480" y="7626240"/>
              <a:ext cx="206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76"/>
            <p:cNvSpPr/>
            <p:nvPr/>
          </p:nvSpPr>
          <p:spPr>
            <a:xfrm>
              <a:off x="-33480" y="7626240"/>
              <a:ext cx="20653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77"/>
            <p:cNvSpPr/>
            <p:nvPr/>
          </p:nvSpPr>
          <p:spPr>
            <a:xfrm>
              <a:off x="406224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78"/>
            <p:cNvSpPr/>
            <p:nvPr/>
          </p:nvSpPr>
          <p:spPr>
            <a:xfrm>
              <a:off x="406224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79"/>
            <p:cNvSpPr/>
            <p:nvPr/>
          </p:nvSpPr>
          <p:spPr>
            <a:xfrm>
              <a:off x="2031840" y="7626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80"/>
            <p:cNvSpPr/>
            <p:nvPr/>
          </p:nvSpPr>
          <p:spPr>
            <a:xfrm>
              <a:off x="2031840" y="7626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81"/>
            <p:cNvSpPr/>
            <p:nvPr/>
          </p:nvSpPr>
          <p:spPr>
            <a:xfrm>
              <a:off x="2031840" y="7626240"/>
              <a:ext cx="2030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82"/>
            <p:cNvSpPr/>
            <p:nvPr/>
          </p:nvSpPr>
          <p:spPr>
            <a:xfrm>
              <a:off x="609732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83"/>
            <p:cNvSpPr/>
            <p:nvPr/>
          </p:nvSpPr>
          <p:spPr>
            <a:xfrm>
              <a:off x="609732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84"/>
            <p:cNvSpPr/>
            <p:nvPr/>
          </p:nvSpPr>
          <p:spPr>
            <a:xfrm>
              <a:off x="4062240" y="7626240"/>
              <a:ext cx="20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85"/>
            <p:cNvSpPr/>
            <p:nvPr/>
          </p:nvSpPr>
          <p:spPr>
            <a:xfrm>
              <a:off x="4062240" y="7626240"/>
              <a:ext cx="20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86"/>
            <p:cNvSpPr/>
            <p:nvPr/>
          </p:nvSpPr>
          <p:spPr>
            <a:xfrm>
              <a:off x="4062240" y="7626240"/>
              <a:ext cx="20350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87"/>
            <p:cNvSpPr/>
            <p:nvPr/>
          </p:nvSpPr>
          <p:spPr>
            <a:xfrm>
              <a:off x="812772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8"/>
            <p:cNvSpPr/>
            <p:nvPr/>
          </p:nvSpPr>
          <p:spPr>
            <a:xfrm>
              <a:off x="812772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89"/>
            <p:cNvSpPr/>
            <p:nvPr/>
          </p:nvSpPr>
          <p:spPr>
            <a:xfrm>
              <a:off x="6097320" y="7626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90"/>
            <p:cNvSpPr/>
            <p:nvPr/>
          </p:nvSpPr>
          <p:spPr>
            <a:xfrm>
              <a:off x="6097320" y="7626240"/>
              <a:ext cx="203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91"/>
            <p:cNvSpPr/>
            <p:nvPr/>
          </p:nvSpPr>
          <p:spPr>
            <a:xfrm>
              <a:off x="6097320" y="7626240"/>
              <a:ext cx="203040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92"/>
            <p:cNvSpPr/>
            <p:nvPr/>
          </p:nvSpPr>
          <p:spPr>
            <a:xfrm>
              <a:off x="1015992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93"/>
            <p:cNvSpPr/>
            <p:nvPr/>
          </p:nvSpPr>
          <p:spPr>
            <a:xfrm>
              <a:off x="10159920" y="1506240"/>
              <a:ext cx="0" cy="612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4"/>
            <p:cNvSpPr/>
            <p:nvPr/>
          </p:nvSpPr>
          <p:spPr>
            <a:xfrm>
              <a:off x="8127720" y="7626240"/>
              <a:ext cx="203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95"/>
            <p:cNvSpPr/>
            <p:nvPr/>
          </p:nvSpPr>
          <p:spPr>
            <a:xfrm>
              <a:off x="8127720" y="7626240"/>
              <a:ext cx="203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Text Box 96"/>
          <p:cNvSpPr/>
          <p:nvPr/>
        </p:nvSpPr>
        <p:spPr>
          <a:xfrm>
            <a:off x="34920" y="1552680"/>
            <a:ext cx="191448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objectiv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r learning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goal may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ready b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stablished in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topic / uni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escriptor or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e an elemen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rom a unit or achievemen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tandar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7"/>
          <p:cNvSpPr/>
          <p:nvPr/>
        </p:nvSpPr>
        <p:spPr>
          <a:xfrm>
            <a:off x="8283600" y="1552680"/>
            <a:ext cx="184140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dentify th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vidence that i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eeded to show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at student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ave achieved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specified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utcomes.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assessmen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s derived from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objectives.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y also b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dentified as th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rformanc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riteria of a uni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tandar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8"/>
          <p:cNvSpPr/>
          <p:nvPr/>
        </p:nvSpPr>
        <p:spPr>
          <a:xfrm>
            <a:off x="4106880" y="1552680"/>
            <a:ext cx="194616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hat th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earners need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o DO to bridg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gap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etween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bjectives and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ssessme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y includ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Discussion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Reading no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Journalling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Quizz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ject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Web searche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Case studie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Scenario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Role pla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99"/>
          <p:cNvSpPr/>
          <p:nvPr/>
        </p:nvSpPr>
        <p:spPr>
          <a:xfrm>
            <a:off x="34920" y="46080"/>
            <a:ext cx="10090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T A 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0"/>
          <p:cNvSpPr/>
          <p:nvPr/>
        </p:nvSpPr>
        <p:spPr>
          <a:xfrm>
            <a:off x="2090880" y="1552680"/>
            <a:ext cx="1946160" cy="51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caffolding to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vide clear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xpectation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d instruction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at will guid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earner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rough th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unit of work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mes link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nd explain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sources, and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ill any gap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at may no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be covered by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source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vailabl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lsewhe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1"/>
          <p:cNvSpPr/>
          <p:nvPr/>
        </p:nvSpPr>
        <p:spPr>
          <a:xfrm>
            <a:off x="6122880" y="1552680"/>
            <a:ext cx="194652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hat learners need to build skills, knowledge and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understanding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o complete th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ctivities   and assessments.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ubject suppor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y includ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library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Interne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classroom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Pe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each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ther support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y include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Learning skills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• Pastoral ca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216240" y="7087680"/>
            <a:ext cx="6908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flickr.com/photos/bob_conaert/2111372120/ by bob cona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34880" y="399960"/>
            <a:ext cx="92901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Nam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 Woo your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udent will be able to make and present a romantic dinner for their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livery Mod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2f &amp; online (blen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id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for romantic dinner is expla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l takes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 conditions required for a romantic dinner are explained and establ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ner experiences favourable emotions as a result of the 'dinner experience'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175360" y="95400"/>
            <a:ext cx="4832280" cy="4628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-12600" y="203040"/>
            <a:ext cx="521640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urse Nam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Cellphone 10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Student will demonstrate ability to use a cellphone appropriatel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elivery Mode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2f &amp; online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-12600" y="2641680"/>
            <a:ext cx="510840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Evidenc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wareness of cost/charges demonstrat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wareness of health and safety issues demonstrate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-12600" y="4673520"/>
            <a:ext cx="1051704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sues around inappropriate use (e.g. txt bullying, use while driving, use in school/workplace explained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ellphone use is demonstrated for voice and txt messag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 features of advanced cellphone use (e.g. calendaring, Web browsing) are demonstrated and the advantages and disadvantages of cellphone use for these applications are explain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324160" y="7112160"/>
            <a:ext cx="78534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flickr.com/photos/spitzgogo/286917522/ by  Spitzgogo_CHEN (Nokia 6230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Rachel Roberts</cp:lastModifiedBy>
  <dcterms:modified xsi:type="dcterms:W3CDTF">2009-12-06T22:45:29Z</dcterms:modified>
  <cp:revision>3</cp:revision>
  <dc:subject/>
  <dc:title>PowerPoint Presentation</dc:title>
</cp:coreProperties>
</file>